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8D9-D2A9-4AE8-ADC8-70035F42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984-DCEF-4A61-BD0A-99EA6D6F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51519-BAE1-484F-8F0A-4E89453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AC19D-04CD-4272-85D2-47267C4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27DE1-7B81-4C57-9A2C-422D004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CFA06-306B-4141-B2FD-BBE01D9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28F2B-DC1C-4D3C-8DE2-97CCA933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CC554-B445-4505-B86E-C956FF4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04FD-C605-4A57-84CF-F0B0BA9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2080E-1B27-4EB4-B3E5-48C00D5D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34B0A-5596-417D-BCFF-3E4DF984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DEE28-7FD8-4782-A927-893D68E3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6F9-758E-4483-AF9B-34DAB431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7336D-8CDD-4C20-9868-E1D4C90A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84247-3BC5-4BF3-82BF-E9B18BEE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26678-9230-42B8-98B8-C265E3D6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19731-F359-4CF3-BB64-C204CEC9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EBFD8-D0E0-41CF-9803-CC5D0510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11027-7CAC-4F7E-ABCB-C685BFF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78E8E-9197-413A-B9CC-770DF63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9EC94-6458-449A-912B-73629D62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D624B-5DB2-4A56-86BB-270DF21D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88A9A-87D0-458A-B3D4-9A98A4F2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C6A-723E-442F-9810-B0828206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81F87-E234-46AA-B230-4676D3FE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6B4FD-C211-4EFD-B9B3-59A7D6BB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395F0-7CCB-428E-B69E-F2D02ED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BE55A-56F1-4D9B-9DA2-0B5A807C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4CF7B-C8EC-4C21-9812-4DF67E19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63169-8E57-4671-937C-D04AACA6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28D0E-BA43-4520-9D2E-BA76FDF4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96FA0-E04D-4871-BCE7-41A61E95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3C56C-5688-4A4B-96A4-3603CF0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4AD3-FE2A-453B-87E8-B4EFD81C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207E-F235-4413-98F2-AFFB42EF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FC854-6D23-4405-BC04-EF71BA81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BD3E7-9515-451A-8E28-D0A62F28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CD932-DB04-44CC-9242-6F7FA7E9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A4FF1-A9A4-4A3A-B4AA-76C04A19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29F7E-AD11-4098-A578-D19F0DC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A985E-4B96-47FC-BE77-7C5C705F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8B138-A3F2-48F0-A527-B156B930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CC55E-5BBF-4322-9598-40998DD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B542C-47C8-4E84-A809-70D6B9C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0EE8-D0E5-4C6E-9CA7-873AD1F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AD36-7332-467F-8D67-296818AA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5198C-0B7E-4245-A4C2-FED79E0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85063-91D4-4BFF-9D96-BDDF810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E938F-5B6A-4ABB-B2CC-6AC0AFF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72AFC-963D-4CC3-A497-110995F8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1FF88-E919-4F20-ACAE-F2850EA5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2CF14-2754-4FE4-83A0-BB128FBF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8288B-36BC-4DEB-AEBE-9BAA97DE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C0E37-6D81-4A07-9469-F70B462B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2652B-BBC3-40DB-8F44-2AEFF3C7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E6218-48A6-4C62-981C-C5BEB38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BE55-66B4-446B-9E34-8AAA1208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2B77F-9960-4EC1-A21F-84472C75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9B2FE-4A25-4D6C-B792-438709D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79BF6-5B17-491D-8DE1-86EBC49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E2177-A030-44B9-9B51-C8B61FD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A8FCB-8913-4C5F-AA16-2D0A2FA6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00BDB-23C5-4FC1-A5EF-DE36BDE2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58B03-A7CB-4B5A-B7A1-0E590C10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AD1CD-96BF-473C-80A3-2D13A354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C64BF-CE06-4C35-AA0A-CB6E899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C3441-B29C-4F1A-A89D-2BD5FA45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B00F-FE74-470A-BA61-8111FFDD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5B6BD-B782-4710-9883-C2920964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8D08C-A1AE-44FB-8C78-F3234E2E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83456-A1C1-4F28-A45B-398EC89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7C132-F2DC-4F22-90EF-215C1A5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43CFF-9E04-4ED4-BAEB-52BCC73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1EFA1-D321-4FEB-8317-6303044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6F2F1-C1AF-4115-A250-C9D53203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7B7B0-6195-42AF-9435-58C75FD0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3903C-58E8-4D54-83F1-442B16F8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2F297-0BB4-42A3-B71F-FDF9985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88E8-E631-4306-B5C4-2162B0D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92A5A-82D6-45AE-AB45-FD94A98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02365-8023-4EEB-9AC8-7525FA4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CECA3-5BE1-4018-9391-E25D0929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2D3DE-9D7E-40DD-B214-9047EC72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E59D7-D531-4EC3-9606-DAD7706D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00B6B-C674-44DA-AAD2-E92BFBA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915B2-AFE6-4E61-B755-685D6EF9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15724-FEEC-4C3B-AE22-91A08A7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301DD-6BA0-43B3-A2E4-8858A835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25F35-92D8-4072-9E8C-FCDA9256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BF49-582A-4A8D-B85D-1DD7AD5D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CAB13-C67E-4DBE-AA37-3D94AFE5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7A98A-B280-4AD9-B825-B2E5C61E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1C39E-CC1D-4C3F-B06F-749B2F54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4C359-990F-44CD-A6C0-6A38A843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99342-F3D9-4DE1-8D4D-C6DD505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03B02-E184-4326-AA93-3F779C7E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82F0A-CA75-4339-9CAA-31248318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A860C-03E8-4020-A5E4-23869D97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C8F21-0923-4079-A632-1BF7BC4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683A1-5708-44D4-9664-CDBE9D91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E750-5680-4516-869F-6D489D75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69EDD-314A-4885-81E2-B65282F7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A791C-AF09-4380-A4C2-3CD871FD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D1E5B-D9A9-4367-B55D-5E5A919D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9E08F-2560-47DE-88DD-C6F48B9F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26F33-709E-4C27-B5E8-F137DEA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750BE-50D7-4888-8BED-F02D97D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18437-1867-42C2-9F73-F7A3EB52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CA99B-0E70-4525-BD2C-BB286D0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706DA-A87C-4E36-8DE1-8EE17AC6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1640F-651D-43EE-96E4-41A21E3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885-694B-4F4A-9E6D-406D0CEA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22BD-95B5-49DE-B2E0-2DF1D468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E3DC3-15EB-493B-B0BF-892FDDE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E5BDC-36F7-40E7-9418-B631762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C93D7-3A7E-4206-898A-522E11B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2A2BB-AACD-418C-B68E-00ED1200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44088-088C-4968-B21F-B5C6CBEC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CFD0B-FDFA-42CC-9DC1-C3B3ABF8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789E6-A2B5-49BD-98FB-F94409B3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64F49-E26B-481E-8CA4-BBC832ED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B9D27-F20B-4870-8CF2-3AA89E6F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7166D-4E9C-4AFB-8E53-E814210F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5C6A-1EC5-452D-8CD3-AD8D34E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1290F-4EF5-456A-8D4F-53966810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0CDD9-4C0D-4B7F-8DF6-C5F5305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BED7F-2E1D-4F19-B5FA-4161DA1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3C32D-5D6B-42BB-9C75-903905B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ECA10-4663-41D6-8A73-A5D5F75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6F760F-2641-4E01-919D-167054AD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C0869-5DD0-4A5B-9CD2-D8B8AE9C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9689E-8F3F-4E2A-83FA-037D6AC1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266CE-5A97-4C41-80CE-ACD7052F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FEC334-9286-495A-8FDE-17CF7775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4740-F7C6-4540-A500-1ACF4EE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93AD6-A550-475E-A50B-6E8DF0B1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E0DA6-E944-4880-AF54-02D406E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64CEC-5CB2-42D1-BD8C-0E9C4B0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9CD4A-A08E-4F8D-8385-777A141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8E152-A21C-4FB0-B94D-C67ABBA0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98BA9-23D0-4AAD-ACC5-EB5DED06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D7924-1D04-4CC5-8E8A-40FA842F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2605E4-041A-40EC-A383-6664EA68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723B9-30D4-432B-A640-2D77A236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2623C-2061-4C5C-8700-55A7FF82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D99C-DEA1-4864-AEEA-C3C48532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EF62B-F3EA-4FA1-869C-1A8EABF8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EDEBB-967A-4AC9-864F-9E04FC62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E91D8-DA03-4135-85A9-29BBA6D3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D144B-B8CA-48BA-AA74-E5B246DF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8A0305-B69A-4E26-8083-2BA70D0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19768-53F6-4398-A5C9-44737F68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B36F8-2261-41B9-BF9F-2DF4EA5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F7398-08FB-4B56-A0D0-85179F1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31131-3792-4760-AC62-DE2E3ABB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A248DE-93AC-4A8E-85E5-C356C726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B329-1792-43D0-815C-27AB0423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6D2C4-D705-407E-A9E4-B736FC01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7005D-9C47-4427-885B-EF7F860A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5C291-3C51-4366-B798-52B59E3F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2A4E4-D1E6-40D0-A276-510965D7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0057C-F36B-4ACC-B323-2D9B1DF0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A0AB1-84B5-4E74-BCFF-0F8A210B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216B7-2EA0-445E-8CDA-79045B52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F9D4A-9964-4119-B185-0D83989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95888-1A69-403C-A5C0-11BD687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B6D8CB-8EF0-4FA8-9F85-28727E8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FF22-A40A-4953-B1A4-D5FF5A31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3F403-3883-4B4F-A6ED-9D56B277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64E47-54DA-40EA-82E4-3EC37601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AF73E-AA25-417B-9FF7-0DC67819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FF0C-55D9-4DFA-ADB1-0FEEF4BA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461E-25D7-44EA-B8EC-CC68A94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BC3D-411A-45FD-9D33-45CF9F7D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1813-33F4-4645-B0EC-D3D5DCDA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506-261B-4E45-AE56-609964FF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3A27-4F76-46EB-B123-AC31DECD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64C5-C4C3-4185-A995-58E8D6E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827B-942B-422E-8774-1EED21E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50ED-9D59-4C34-B414-4F03FFC3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A487-C93B-4AFB-9F8A-72176A5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2656-56E9-4277-A1F5-8B8F86B0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52FD-8F00-49D7-BB85-A96C36C8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9CABA-077A-44B1-B832-B4926148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FDC9-A472-4378-9DC9-D1D6675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F735-4278-4424-882D-76A93C3A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FF3-78CD-4188-B05A-6E73609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1824-4765-4699-BD72-1A0E7D7C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4925-D675-472B-9222-C360CB81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CFB0-5598-4ED3-8728-8F9381AB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56A5-E2C1-4BE9-9DD4-7D74AA86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1741-BB5B-43AA-A358-8ABF762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FE72-12D8-4CDA-8F52-EAA50FFC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8FA2-DE22-4DFC-9B9D-0F1F05C3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6F1B-F9BF-4CF6-BEB4-E482A497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40BF-C414-418F-B2DF-A826E3EC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73EA-0FF6-41EF-97D1-7CFB41C2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D4F-448A-4129-B585-46D5A251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73CB-A99C-449B-BC07-64F760D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55341-0A46-4857-A046-1EC71D61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DBF6-6A73-487E-B80A-F5599F46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DF30-88D2-48DF-BF01-8C4A94F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658C2-E90C-4488-A7FE-40C91352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05CB-C5B1-4407-9DC9-243BDB2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CF9CE-AED9-459E-91E5-6F358073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C0290-01C6-4080-9A12-1902E1E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94EE-7201-4808-B0F2-BA4F686B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0245-F1C6-4353-BF57-0DA97681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599-8A58-4528-99FA-B468660F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C458-B8B8-4643-AC1E-34CEC2C0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71DD-94FE-44B1-AF85-E28FECA8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D1901-FFAC-4076-A181-501FB449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484B-2876-4148-A616-842B6EF2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B96BC-7E10-4AFB-8964-8EED2AF4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ADBE4-5A59-4007-B6B2-CCF59AC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B0EA-FC9A-406D-AA7A-2FF3C23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48BA-86EB-40E5-A399-19DCAEE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E687-BA9F-494C-B229-DB90F36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3B47-ED88-4B66-AE07-8EFB864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E65-968B-49BE-B80C-12C03D3F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0C74B-DCE6-44B4-9081-355F2A13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4934-20D0-46D8-9D83-144181B5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0C22-A83B-42B2-B81F-9C2E5B1B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78079-81A1-485E-AC25-D8BC4AE3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9756-2C1B-4A5B-B6ED-52EDC13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7FF7-41D1-41DF-8ED5-CC543D3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F3B22-7687-4615-9532-E898A22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58A2-4EB0-4094-8C4F-2860BA06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7B99F-8FCF-4D51-A6C8-999F4FA4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4EA3-E794-4AB2-9724-37C93C9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9FC-B66F-48B6-BB86-2129096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B5B0D-E0CF-416C-B854-E1716CE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3EBE-449C-4544-8EC9-BBDFADAD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924B-5C8C-4EDD-9BEE-79B7720A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1A983-0A45-4F48-9ADA-1FB7AC42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25752-1F7B-4A2C-BE1C-4F5488C8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480D-7830-49A4-873F-8ED0CEE9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BC81D-30B4-44FD-9E41-31171FF0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407D6-0BB7-4C4F-8E8D-934510B6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0D47-F7F8-42AB-8BE0-177C4AE4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D64B8-9C0D-4249-AA75-7E89818B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BC7-C9BE-4BAD-A696-A4731AF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8B0E4-9BAE-4631-9DE5-34CABA22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2D83-ECB0-470B-9AC5-26B2BE4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A8A2-7FEC-4048-99D3-41A6B67F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B4AE-34E4-4E70-8452-F902157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0EAF-F463-4F72-A424-BB4A758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5A81-E42D-4B06-A524-0CDF2ABA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1AC91-FD7F-4AAE-A3EF-AEFCB053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48104-6448-4974-824A-22A8D509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280E-2B1F-4B14-B4DB-C2BEBD4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264DF-726A-4EA9-88DE-3D09CC45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73F-39B3-4C21-A2C7-BD769CF8D6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A26C-769F-40BE-AC3E-BBB8F4EB6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107B-8911-4A14-AB46-44128E2A0F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F7F3-00E3-4C1A-AE0A-181C42CBBA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E301-5075-4DB3-8341-2C1765F8D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5A7-AB99-43DE-ADDC-F5CE72691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302-E847-41C8-96D2-C3BA31E1CA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4C6B-7D39-4E91-9E8A-A480533266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32B8-3EEF-41BC-A166-77893BE99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402E-03DB-4FA6-82C4-63FB2B331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DB48-E0D9-4D7C-963A-9ACC6AED0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C3DE-0884-4F85-805C-87E93C4F6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DF06-A210-4B60-B97D-BBC4BDBB15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F2D9-9479-4A82-BC61-2213164B0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0E57-7494-45F2-944C-CC65A4C57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60EB-0391-4BDE-A2D7-B8ECAFDBC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3D33-11FA-4DFC-9EC0-59758E64E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27D5-DD06-4397-BD8F-D22E9B0C4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9BB-BBA0-432D-8711-F7DFC7E28C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FC02-861D-4571-B0BD-ECD81066D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7620-E499-49BD-AF1B-3D43C1822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8364-1166-46BE-AFB2-04D2B5A1FF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5AD4-7084-4127-8B77-BBB61DFF1E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9C74-77E6-4675-AF06-902F2D618A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3776-FD41-4C38-9611-6E5D0C0001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9057-8983-4FC2-8BFB-A4D50D0D1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42D3-3C8A-4718-A8BD-D57EA8A84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51D0-51DF-49DF-96F7-5A1EBF9CF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8F1-0FC0-4137-A1DB-060AC1CD9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4A5A-3AF9-4425-BD1D-F18537EB9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A84A-7572-4D8A-9491-7F8D676CF3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9F55-4982-440A-A6B5-EA153E5BA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542F-E072-4CE3-8231-3BE025666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5909-8FDB-430B-A0AE-00C408063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66B-90F7-4B29-8A27-52445C662F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079-E0AF-4639-9E8B-24B8B812F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8A8E-8254-4BC7-A7CA-65DC2F9ECE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857C-8910-44D0-9CEB-9F43379D87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502F-8172-4B5C-A8CD-2D00D6544E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17FD-F9B5-4BCF-ACD0-99B3F43F07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886040" y="3105000"/>
            <a:ext cx="53719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91139" descr=""/>
          <p:cNvPicPr/>
          <p:nvPr/>
        </p:nvPicPr>
        <p:blipFill>
          <a:blip r:embed="rId1"/>
          <a:stretch/>
        </p:blipFill>
        <p:spPr>
          <a:xfrm>
            <a:off x="514440" y="716040"/>
            <a:ext cx="8010360" cy="323856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91140" descr=""/>
          <p:cNvPicPr/>
          <p:nvPr/>
        </p:nvPicPr>
        <p:blipFill>
          <a:blip r:embed="rId2"/>
          <a:stretch/>
        </p:blipFill>
        <p:spPr>
          <a:xfrm>
            <a:off x="1082520" y="4145040"/>
            <a:ext cx="7334280" cy="35244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91141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7296120" cy="3621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91142" descr=""/>
          <p:cNvPicPr/>
          <p:nvPr/>
        </p:nvPicPr>
        <p:blipFill>
          <a:blip r:embed="rId4"/>
          <a:stretch/>
        </p:blipFill>
        <p:spPr>
          <a:xfrm>
            <a:off x="1116000" y="5229360"/>
            <a:ext cx="7238880" cy="32364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91143" descr=""/>
          <p:cNvPicPr/>
          <p:nvPr/>
        </p:nvPicPr>
        <p:blipFill>
          <a:blip r:embed="rId5"/>
          <a:stretch/>
        </p:blipFill>
        <p:spPr>
          <a:xfrm>
            <a:off x="1104840" y="5653080"/>
            <a:ext cx="6610320" cy="3618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91144" descr=""/>
          <p:cNvPicPr/>
          <p:nvPr/>
        </p:nvPicPr>
        <p:blipFill>
          <a:blip r:embed="rId6"/>
          <a:stretch/>
        </p:blipFill>
        <p:spPr>
          <a:xfrm>
            <a:off x="1093680" y="6093000"/>
            <a:ext cx="7210440" cy="361800"/>
          </a:xfrm>
          <a:prstGeom prst="rect">
            <a:avLst/>
          </a:prstGeom>
          <a:ln w="0">
            <a:noFill/>
          </a:ln>
        </p:spPr>
      </p:pic>
      <p:sp>
        <p:nvSpPr>
          <p:cNvPr id="1059" name="矩形 91147"/>
          <p:cNvSpPr/>
          <p:nvPr/>
        </p:nvSpPr>
        <p:spPr>
          <a:xfrm>
            <a:off x="7667640" y="407664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9216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01000" cy="38484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92162" descr=""/>
          <p:cNvPicPr/>
          <p:nvPr/>
        </p:nvPicPr>
        <p:blipFill>
          <a:blip r:embed="rId2"/>
          <a:stretch/>
        </p:blipFill>
        <p:spPr>
          <a:xfrm>
            <a:off x="1187280" y="5229360"/>
            <a:ext cx="6296040" cy="101916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92163" descr=""/>
          <p:cNvPicPr/>
          <p:nvPr/>
        </p:nvPicPr>
        <p:blipFill>
          <a:blip r:embed="rId3"/>
          <a:stretch/>
        </p:blipFill>
        <p:spPr>
          <a:xfrm>
            <a:off x="7308720" y="4724280"/>
            <a:ext cx="1162080" cy="362160"/>
          </a:xfrm>
          <a:prstGeom prst="rect">
            <a:avLst/>
          </a:prstGeom>
          <a:ln w="0">
            <a:noFill/>
          </a:ln>
        </p:spPr>
      </p:pic>
      <p:sp>
        <p:nvSpPr>
          <p:cNvPr id="1063" name="矩形 92165"/>
          <p:cNvSpPr/>
          <p:nvPr/>
        </p:nvSpPr>
        <p:spPr>
          <a:xfrm>
            <a:off x="7740720" y="4724280"/>
            <a:ext cx="36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93185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72200" cy="5114880"/>
          </a:xfrm>
          <a:prstGeom prst="rect">
            <a:avLst/>
          </a:prstGeom>
          <a:ln w="0">
            <a:noFill/>
          </a:ln>
        </p:spPr>
      </p:pic>
      <p:sp>
        <p:nvSpPr>
          <p:cNvPr id="1065" name="矩形 93193"/>
          <p:cNvSpPr/>
          <p:nvPr/>
        </p:nvSpPr>
        <p:spPr>
          <a:xfrm>
            <a:off x="1863720" y="2017800"/>
            <a:ext cx="9558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93194"/>
          <p:cNvSpPr/>
          <p:nvPr/>
        </p:nvSpPr>
        <p:spPr>
          <a:xfrm>
            <a:off x="6603840" y="3147840"/>
            <a:ext cx="95580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93195"/>
          <p:cNvSpPr/>
          <p:nvPr/>
        </p:nvSpPr>
        <p:spPr>
          <a:xfrm>
            <a:off x="6632640" y="4319640"/>
            <a:ext cx="1395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93196"/>
          <p:cNvSpPr/>
          <p:nvPr/>
        </p:nvSpPr>
        <p:spPr>
          <a:xfrm>
            <a:off x="8028000" y="4869000"/>
            <a:ext cx="504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3197"/>
          <p:cNvSpPr/>
          <p:nvPr/>
        </p:nvSpPr>
        <p:spPr>
          <a:xfrm>
            <a:off x="1187280" y="5445000"/>
            <a:ext cx="5763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02401" descr=""/>
          <p:cNvPicPr/>
          <p:nvPr/>
        </p:nvPicPr>
        <p:blipFill>
          <a:blip r:embed="rId1"/>
          <a:stretch/>
        </p:blipFill>
        <p:spPr>
          <a:xfrm>
            <a:off x="566640" y="1724040"/>
            <a:ext cx="8010720" cy="3409920"/>
          </a:xfrm>
          <a:prstGeom prst="rect">
            <a:avLst/>
          </a:prstGeom>
          <a:ln w="0">
            <a:noFill/>
          </a:ln>
        </p:spPr>
      </p:pic>
      <p:sp>
        <p:nvSpPr>
          <p:cNvPr id="1071" name="矩形 102404"/>
          <p:cNvSpPr/>
          <p:nvPr/>
        </p:nvSpPr>
        <p:spPr>
          <a:xfrm>
            <a:off x="2484360" y="3500280"/>
            <a:ext cx="264960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102405"/>
          <p:cNvSpPr/>
          <p:nvPr/>
        </p:nvSpPr>
        <p:spPr>
          <a:xfrm>
            <a:off x="6804000" y="4653000"/>
            <a:ext cx="10810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01377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39160" cy="5257800"/>
          </a:xfrm>
          <a:prstGeom prst="rect">
            <a:avLst/>
          </a:prstGeom>
          <a:ln w="0">
            <a:noFill/>
          </a:ln>
        </p:spPr>
      </p:pic>
      <p:sp>
        <p:nvSpPr>
          <p:cNvPr id="1074" name="矩形 101381"/>
          <p:cNvSpPr/>
          <p:nvPr/>
        </p:nvSpPr>
        <p:spPr>
          <a:xfrm>
            <a:off x="5999040" y="1967040"/>
            <a:ext cx="18860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101382"/>
          <p:cNvSpPr/>
          <p:nvPr/>
        </p:nvSpPr>
        <p:spPr>
          <a:xfrm>
            <a:off x="4599000" y="2529000"/>
            <a:ext cx="393372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101383"/>
          <p:cNvSpPr/>
          <p:nvPr/>
        </p:nvSpPr>
        <p:spPr>
          <a:xfrm>
            <a:off x="1170000" y="3110040"/>
            <a:ext cx="34732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867040" cy="6955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6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334360" cy="27529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7"/>
          <p:cNvSpPr/>
          <p:nvPr/>
        </p:nvSpPr>
        <p:spPr>
          <a:xfrm>
            <a:off x="4716360" y="1916280"/>
            <a:ext cx="5302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4064040" y="2635200"/>
            <a:ext cx="530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8026560" y="2982960"/>
            <a:ext cx="529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4238640" y="3341520"/>
            <a:ext cx="5302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2355840" y="4060800"/>
            <a:ext cx="5302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995400" y="4408560"/>
            <a:ext cx="5302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87041" descr=""/>
          <p:cNvPicPr/>
          <p:nvPr/>
        </p:nvPicPr>
        <p:blipFill>
          <a:blip r:embed="rId1"/>
          <a:stretch/>
        </p:blipFill>
        <p:spPr>
          <a:xfrm>
            <a:off x="371520" y="1500120"/>
            <a:ext cx="8400960" cy="38577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87045"/>
          <p:cNvSpPr/>
          <p:nvPr/>
        </p:nvSpPr>
        <p:spPr>
          <a:xfrm>
            <a:off x="3924360" y="3357720"/>
            <a:ext cx="72396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7046"/>
          <p:cNvSpPr/>
          <p:nvPr/>
        </p:nvSpPr>
        <p:spPr>
          <a:xfrm>
            <a:off x="822240" y="3705120"/>
            <a:ext cx="72396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8601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91600" cy="5295960"/>
          </a:xfrm>
          <a:prstGeom prst="rect">
            <a:avLst/>
          </a:prstGeom>
          <a:ln w="0">
            <a:noFill/>
          </a:ln>
        </p:spPr>
      </p:pic>
      <p:sp>
        <p:nvSpPr>
          <p:cNvPr id="1035" name="矩形 86021"/>
          <p:cNvSpPr/>
          <p:nvPr/>
        </p:nvSpPr>
        <p:spPr>
          <a:xfrm>
            <a:off x="8244000" y="1628640"/>
            <a:ext cx="28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6022"/>
          <p:cNvSpPr/>
          <p:nvPr/>
        </p:nvSpPr>
        <p:spPr>
          <a:xfrm>
            <a:off x="3683160" y="5362560"/>
            <a:ext cx="1609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6023"/>
          <p:cNvSpPr/>
          <p:nvPr/>
        </p:nvSpPr>
        <p:spPr>
          <a:xfrm>
            <a:off x="1690560" y="5734080"/>
            <a:ext cx="720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84993" descr=""/>
          <p:cNvPicPr/>
          <p:nvPr/>
        </p:nvPicPr>
        <p:blipFill>
          <a:blip r:embed="rId1"/>
          <a:stretch/>
        </p:blipFill>
        <p:spPr>
          <a:xfrm>
            <a:off x="390600" y="1790640"/>
            <a:ext cx="8362800" cy="3276720"/>
          </a:xfrm>
          <a:prstGeom prst="rect">
            <a:avLst/>
          </a:prstGeom>
          <a:ln w="0">
            <a:noFill/>
          </a:ln>
        </p:spPr>
      </p:pic>
      <p:sp>
        <p:nvSpPr>
          <p:cNvPr id="1039" name="矩形 84994"/>
          <p:cNvSpPr/>
          <p:nvPr/>
        </p:nvSpPr>
        <p:spPr>
          <a:xfrm>
            <a:off x="6156360" y="2565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4995"/>
          <p:cNvSpPr/>
          <p:nvPr/>
        </p:nvSpPr>
        <p:spPr>
          <a:xfrm>
            <a:off x="1158840" y="4286160"/>
            <a:ext cx="604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4996"/>
          <p:cNvSpPr/>
          <p:nvPr/>
        </p:nvSpPr>
        <p:spPr>
          <a:xfrm>
            <a:off x="5491080" y="4297320"/>
            <a:ext cx="116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4997"/>
          <p:cNvSpPr/>
          <p:nvPr/>
        </p:nvSpPr>
        <p:spPr>
          <a:xfrm>
            <a:off x="684360" y="4724280"/>
            <a:ext cx="208116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8396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62680" cy="104796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83970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7981920" cy="95256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83971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201000" cy="2381040"/>
          </a:xfrm>
          <a:prstGeom prst="rect">
            <a:avLst/>
          </a:prstGeom>
          <a:ln w="0">
            <a:noFill/>
          </a:ln>
        </p:spPr>
      </p:pic>
      <p:sp>
        <p:nvSpPr>
          <p:cNvPr id="1046" name="矩形 83973"/>
          <p:cNvSpPr/>
          <p:nvPr/>
        </p:nvSpPr>
        <p:spPr>
          <a:xfrm>
            <a:off x="7812000" y="234936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82945" descr=""/>
          <p:cNvPicPr/>
          <p:nvPr/>
        </p:nvPicPr>
        <p:blipFill>
          <a:blip r:embed="rId1"/>
          <a:stretch/>
        </p:blipFill>
        <p:spPr>
          <a:xfrm>
            <a:off x="547560" y="1062000"/>
            <a:ext cx="8048880" cy="4734000"/>
          </a:xfrm>
          <a:prstGeom prst="rect">
            <a:avLst/>
          </a:prstGeom>
          <a:ln w="0">
            <a:noFill/>
          </a:ln>
        </p:spPr>
      </p:pic>
      <p:sp>
        <p:nvSpPr>
          <p:cNvPr id="1048" name="矩形 82949"/>
          <p:cNvSpPr/>
          <p:nvPr/>
        </p:nvSpPr>
        <p:spPr>
          <a:xfrm>
            <a:off x="7812000" y="42210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89089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115480" cy="50389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89092"/>
          <p:cNvSpPr/>
          <p:nvPr/>
        </p:nvSpPr>
        <p:spPr>
          <a:xfrm>
            <a:off x="7740720" y="3213000"/>
            <a:ext cx="503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90113" descr=""/>
          <p:cNvPicPr/>
          <p:nvPr/>
        </p:nvPicPr>
        <p:blipFill>
          <a:blip r:embed="rId1"/>
          <a:stretch/>
        </p:blipFill>
        <p:spPr>
          <a:xfrm>
            <a:off x="538200" y="905040"/>
            <a:ext cx="8067600" cy="5047920"/>
          </a:xfrm>
          <a:prstGeom prst="rect">
            <a:avLst/>
          </a:prstGeom>
          <a:ln w="0">
            <a:noFill/>
          </a:ln>
        </p:spPr>
      </p:pic>
      <p:sp>
        <p:nvSpPr>
          <p:cNvPr id="1052" name="矩形 90115"/>
          <p:cNvSpPr/>
          <p:nvPr/>
        </p:nvSpPr>
        <p:spPr>
          <a:xfrm>
            <a:off x="7740720" y="3213000"/>
            <a:ext cx="503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24:47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